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7509D-267E-48C2-B8B6-07F4B0BAE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0FA0-400A-4D28-8E50-8D1814B0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3715-665C-43F1-ADF6-681A78599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94831-F2A8-4BA1-B579-EF2120981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183590-B6BA-4A25-BFC2-92D2EB090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531FA-4CDD-4D9C-91D2-73BAD71AC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05B58-4809-42A2-8FB3-F25B3E420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B81FF-7C67-4DC4-8F92-B0D7373CA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7A136-1D9C-4FDC-931B-4BA2E5BEC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29EB8-9084-4ED2-AE5F-FA09C561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4D499-367D-4A98-A4C5-C73F4D07F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52D7B-20BD-407E-AEC1-DC4383F6C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E71F4-9165-47A6-83D9-BBFF0CB0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DBE45-9E2C-47F8-BA1E-BB7E3DF8D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33BFC-100F-43C8-B08E-9AA96AC35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849C4-2077-49AE-A73C-CF8FD12E8E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5B6B1-7CE8-4F1F-8492-9BD713552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F51F9-7F6A-4F71-8853-7ED344F34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0155-B41F-41AE-8E77-6DEC2DD8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BBA6-F13A-4EFF-A495-D69F7FF58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B8DA1-5E49-48B6-B040-145176B60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1C33-C4C1-48BB-9ABD-92FBABC46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E07D-F350-4BE0-9C52-1C6B1354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A765-D02A-4D17-A1AB-E8E7BE010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DF2C-A1FE-42F4-B338-EF629168AB6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BB93-14A9-4B28-BC96-3EB60885606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mead.k12.wa.us/farwell/nx98/kd/kdesert.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uwait / </a:t>
            </a:r>
            <a:r>
              <a:rPr b="0" lang="ar-SA" sz="5400" spc="-1" strike="noStrike">
                <a:solidFill>
                  <a:srgbClr val="000000"/>
                </a:solidFill>
                <a:latin typeface="Arial"/>
                <a:cs typeface="Arial"/>
              </a:rPr>
              <a:t>دولة الكويت</a:t>
            </a:r>
            <a:r>
              <a:rPr b="0" lang="en-US" sz="5400" spc="-1" strike="noStrike">
                <a:solidFill>
                  <a:srgbClr val="000000"/>
                </a:solidFill>
                <a:latin typeface="Arial"/>
                <a:ea typeface="Arial"/>
              </a:rPr>
              <a:t>‎</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de by John Miracle </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 Sean Snyd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ork cited</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hlinkClick r:id="rId1"/>
              </a:rPr>
              <a:t>http://www.mead.k12.wa.us/farwell/nx98/kd/kdesert.ht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asiarooms.com/travel-guide/kuwait/kuwait-overview/kuwait-climate.htm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429000" y="2924280"/>
            <a:ext cx="5715000" cy="3933720"/>
          </a:xfrm>
          <a:prstGeom prst="rect">
            <a:avLst/>
          </a:prstGeom>
          <a:ln w="0">
            <a:noFill/>
          </a:ln>
        </p:spPr>
      </p:pic>
      <p:pic>
        <p:nvPicPr>
          <p:cNvPr id="93" name="" descr=""/>
          <p:cNvPicPr/>
          <p:nvPr/>
        </p:nvPicPr>
        <p:blipFill>
          <a:blip r:embed="rId2"/>
          <a:stretch/>
        </p:blipFill>
        <p:spPr>
          <a:xfrm>
            <a:off x="0" y="1371600"/>
            <a:ext cx="5257800" cy="6019920"/>
          </a:xfrm>
          <a:prstGeom prst="rect">
            <a:avLst/>
          </a:prstGeom>
          <a:ln w="0">
            <a:noFill/>
          </a:ln>
        </p:spPr>
      </p:pic>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nd</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is mostly a desert with little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ndforms includes ridges small mountains and sinkhol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 roads and such there may be bottles which signals to a driver that there is a desert camp nearb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Land Continued…</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has a terrible water distribution and water recycling system… The places were they put their wastes leeches through the land fills and right back into the water that they drink, sickness is just one of many probl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mate/Vegetation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enjoys a variable continental climate. Summer months are between June and October and the rainy season (if you can call it that) runs from December to February, when humidity can also be high. In summer temperatures can get over 100°F, but they drop below 70°F in wint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vernment</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s government is fairly unstable and they have gone through a good bit of leade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is a constitutional, hereditary emirate ruled by princes (Amirs) who have been drawn from the Al Sabah family for over 200 yea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story &amp; Current Events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erica was asked to help Kuwait in fighting off the Iraqi nation…This war and or fight was known as Desert Stor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Kuwait is believed to have been part of an early civilization in the 3rd millennium B.C. and to have traded with Mesopotamian citi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conomy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 has a small, relatively open economy dominated by the oil industry. ^_^ Its proven crude oil reserves of about 98 billion barrels--10% of world reserves.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uwait's politics is a picture of constitutional monarchy. The constitution governing Kuwait became operational from 1962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lture</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chitecture in Kuwait is very unique and you will find that it reflects the presence of both typical traditional architecture and modern architectural styles.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usic in Kuwait is a mixture of the music of East Africa and India that was brought back by the Kuwaiti trader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laces to Visit</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ical buildings and towers are the main reasons for the increasing popularity of Kuwait tourism. The Liberation Tower in Kuwait is one of the more famous of the the Kuwait Popular Destination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 of Kuwait is also famous for the amusement parks. Entertainment City in Kuwait, Al-Sha'ab leisure park in Kuwait andKuwait and Zoological Garden of Kuwait are most popular amusement parks in Kuwa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09:13Z</dcterms:created>
  <dc:creator>johnathantmiracle</dc:creator>
  <dc:description/>
  <dc:language>en-US</dc:language>
  <cp:lastModifiedBy>johnathantmiracle</cp:lastModifiedBy>
  <dcterms:modified xsi:type="dcterms:W3CDTF">2009-02-26T18:08:32Z</dcterms:modified>
  <cp:revision>10</cp:revision>
  <dc:subject/>
  <dc:title>Kuwait / دولة الكويت‎ </dc:title>
</cp:coreProperties>
</file>